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7.png" ContentType="image/png"/>
  <Override PartName="/ppt/media/image22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3C02-49EE-4FFC-8466-6F62AB47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198D-8DFC-4FCF-AFD9-99F08964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CD46-5309-46BD-A5F8-C36A9369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CA92-0F15-48F1-BFBA-3AB86891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8A1C-5D9C-464F-9B5A-46659AAC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69DD-BE3E-4C24-A19E-FCFC08E4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9A8C-3695-4EF6-8746-4274FF74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7763-10FF-4D79-96F3-E29F0A94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1773-1321-4724-9D72-6D5AB272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EA4F-F9B2-401D-A86F-7F0B1B4B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6EF0-A45A-4B4A-A61F-3279BE64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4219-6DE0-4FE2-8EBD-803E8C67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EFD0-EC74-4F77-BA6C-25431624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0641-94C6-4F2D-9AEA-3E1EE544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2890-CE9C-4A63-8F97-C9A50EB5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7F4D-7198-448D-9159-4FA8F910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3939-6DAB-4591-83C0-C35989E9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9ED1-5A08-425C-81E2-9B0465F4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E361-7058-4039-A9AF-177C1925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CF1-1E45-4C30-A8FE-02522AAF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8137-C690-4B3C-8E6E-9F9BC68D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04ED-31DF-441D-BCDD-BBFF0A92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1512-F1A3-44A8-90A7-A1D05D6E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CDB3-0396-48E9-8157-115B9BDF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FEC9-5D26-44EB-90C1-A8AD82E13F5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A0B1-4C90-4E98-BFB2-4A9745B3D02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8120" y="533160"/>
            <a:ext cx="58672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Компьютерное моделирование в проектной деятельности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цианова Т.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цент факультета ВМК МГ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Программ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7" name="p2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99172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«Жизнь»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9" name="g1" descr=""/>
          <p:cNvPicPr/>
          <p:nvPr/>
        </p:nvPicPr>
        <p:blipFill>
          <a:blip r:embed="rId1"/>
          <a:stretch/>
        </p:blipFill>
        <p:spPr>
          <a:xfrm>
            <a:off x="685800" y="2665440"/>
            <a:ext cx="3809880" cy="2746440"/>
          </a:xfrm>
          <a:prstGeom prst="rect">
            <a:avLst/>
          </a:prstGeom>
          <a:ln w="0">
            <a:noFill/>
          </a:ln>
        </p:spPr>
      </p:pic>
      <p:pic>
        <p:nvPicPr>
          <p:cNvPr id="170" name="g2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3962520" cy="2975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419720" y="1600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2400" spc="-1" strike="noStrike">
                <a:solidFill>
                  <a:srgbClr val="ffffff"/>
                </a:solidFill>
                <a:latin typeface="Arial"/>
                <a:ea typeface="Arial"/>
              </a:rPr>
              <a:t>Conway's Game of Lif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Эксперименты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3" name="g3" descr=""/>
          <p:cNvPicPr/>
          <p:nvPr/>
        </p:nvPicPr>
        <p:blipFill>
          <a:blip r:embed="rId1"/>
          <a:stretch/>
        </p:blipFill>
        <p:spPr>
          <a:xfrm>
            <a:off x="0" y="1143000"/>
            <a:ext cx="4381560" cy="3105000"/>
          </a:xfrm>
          <a:prstGeom prst="rect">
            <a:avLst/>
          </a:prstGeom>
          <a:ln w="0">
            <a:noFill/>
          </a:ln>
        </p:spPr>
      </p:pic>
      <p:pic>
        <p:nvPicPr>
          <p:cNvPr id="174" name="g4" descr=""/>
          <p:cNvPicPr/>
          <p:nvPr/>
        </p:nvPicPr>
        <p:blipFill>
          <a:blip r:embed="rId2"/>
          <a:stretch/>
        </p:blipFill>
        <p:spPr>
          <a:xfrm>
            <a:off x="380880" y="3352680"/>
            <a:ext cx="4552920" cy="3105360"/>
          </a:xfrm>
          <a:prstGeom prst="rect">
            <a:avLst/>
          </a:prstGeom>
          <a:ln w="0">
            <a:noFill/>
          </a:ln>
        </p:spPr>
      </p:pic>
      <p:pic>
        <p:nvPicPr>
          <p:cNvPr id="175" name="g5" descr=""/>
          <p:cNvPicPr/>
          <p:nvPr/>
        </p:nvPicPr>
        <p:blipFill>
          <a:blip r:embed="rId3"/>
          <a:stretch/>
        </p:blipFill>
        <p:spPr>
          <a:xfrm>
            <a:off x="6400800" y="2286000"/>
            <a:ext cx="183816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Генетик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7" name="черно-белые%20кролики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105160" cy="2872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05280" y="51055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Ч + БЧ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4267080"/>
            <a:ext cx="7617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4267080"/>
            <a:ext cx="1524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бел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чер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чер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чер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5880" y="5029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Эксперимент и программа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3" name="g6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763120" cy="2664000"/>
          </a:xfrm>
          <a:prstGeom prst="rect">
            <a:avLst/>
          </a:prstGeom>
          <a:ln w="0">
            <a:noFill/>
          </a:ln>
        </p:spPr>
      </p:pic>
      <p:pic>
        <p:nvPicPr>
          <p:cNvPr id="184" name="g7" descr=""/>
          <p:cNvPicPr/>
          <p:nvPr/>
        </p:nvPicPr>
        <p:blipFill>
          <a:blip r:embed="rId2"/>
          <a:stretch/>
        </p:blipFill>
        <p:spPr>
          <a:xfrm>
            <a:off x="1447920" y="3753000"/>
            <a:ext cx="61531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55623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ги = (кролики + курицы) *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крол%20с%202%20ногами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488880"/>
            <a:ext cx="838188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Математическая модель — это математическое представление реальности. Является частным случаем понятия модели, как системы, исследование которой позволяет получать информацию о некоторой другой системе.</a:t>
            </a:r>
            <a:br>
              <a:rPr sz="2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оцесс построения и изучения математических моделей называется математическим моделирование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се естественные и общественные науки, использующие математический аппарат, по сути занимаются математическим моделированием: заменяют объект его математической моделью и затем изучают последнюю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62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Компьютерная модель  — компьютерная программа, реализующая представление объекта  в форме, отличной от реальной, но приближенной к алгоритмическому описанию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Компьютерное моделирование является одним из эффективных методов изучения сложных систем.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Компьютерные модели используются для получения новых знаний о моделируемом объекте или для приближенной оценки поведения систем, слишком сложных для аналитического исследования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1981080"/>
            <a:ext cx="876312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Компьютерные модели стали обычным инструментом математического моделирования и применяются в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физике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астрофизике,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механике,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химии,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биологии,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экономике,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оциологии,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метеорологии, 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радиоэлектронике,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машиностроении,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автомобилестроении 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и проч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8" name="km2" descr=""/>
          <p:cNvPicPr/>
          <p:nvPr/>
        </p:nvPicPr>
        <p:blipFill>
          <a:blip r:embed="rId1"/>
          <a:stretch/>
        </p:blipFill>
        <p:spPr>
          <a:xfrm>
            <a:off x="6477120" y="3429000"/>
            <a:ext cx="2187360" cy="2666880"/>
          </a:xfrm>
          <a:prstGeom prst="rect">
            <a:avLst/>
          </a:prstGeom>
          <a:ln w="0">
            <a:noFill/>
          </a:ln>
        </p:spPr>
      </p:pic>
      <p:pic>
        <p:nvPicPr>
          <p:cNvPr id="149" name="fig3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1682640" cy="2514600"/>
          </a:xfrm>
          <a:prstGeom prst="rect">
            <a:avLst/>
          </a:prstGeom>
          <a:ln w="0">
            <a:noFill/>
          </a:ln>
        </p:spPr>
      </p:pic>
      <p:pic>
        <p:nvPicPr>
          <p:cNvPr id="150" name="km4" descr=""/>
          <p:cNvPicPr/>
          <p:nvPr/>
        </p:nvPicPr>
        <p:blipFill>
          <a:blip r:embed="rId3"/>
          <a:stretch/>
        </p:blipFill>
        <p:spPr>
          <a:xfrm>
            <a:off x="7543800" y="152280"/>
            <a:ext cx="1366920" cy="1371600"/>
          </a:xfrm>
          <a:prstGeom prst="rect">
            <a:avLst/>
          </a:prstGeom>
          <a:ln w="0">
            <a:noFill/>
          </a:ln>
        </p:spPr>
      </p:pic>
      <p:pic>
        <p:nvPicPr>
          <p:cNvPr id="151" name="km" descr=""/>
          <p:cNvPicPr/>
          <p:nvPr/>
        </p:nvPicPr>
        <p:blipFill>
          <a:blip r:embed="rId4"/>
          <a:stretch/>
        </p:blipFill>
        <p:spPr>
          <a:xfrm>
            <a:off x="457200" y="228600"/>
            <a:ext cx="2057400" cy="1755720"/>
          </a:xfrm>
          <a:prstGeom prst="rect">
            <a:avLst/>
          </a:prstGeom>
          <a:ln w="0">
            <a:noFill/>
          </a:ln>
        </p:spPr>
      </p:pic>
      <p:pic>
        <p:nvPicPr>
          <p:cNvPr id="152" name="km0" descr=""/>
          <p:cNvPicPr/>
          <p:nvPr/>
        </p:nvPicPr>
        <p:blipFill>
          <a:blip r:embed="rId5"/>
          <a:stretch/>
        </p:blipFill>
        <p:spPr>
          <a:xfrm>
            <a:off x="4038480" y="0"/>
            <a:ext cx="2590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3657600" cy="28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Аналитическое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Математические модели (уравнения, функции)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ычисления, приводящие к решению  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пьютерное модел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1371600"/>
            <a:ext cx="3352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Имитацио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Алгоритмы, воспроизводящие функционирование исследуемой сис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Экспериментальное нахождение реш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m6" descr=""/>
          <p:cNvPicPr/>
          <p:nvPr/>
        </p:nvPicPr>
        <p:blipFill>
          <a:blip r:embed="rId1"/>
          <a:stretch/>
        </p:blipFill>
        <p:spPr>
          <a:xfrm>
            <a:off x="762120" y="4541760"/>
            <a:ext cx="3352680" cy="2316240"/>
          </a:xfrm>
          <a:prstGeom prst="rect">
            <a:avLst/>
          </a:prstGeom>
          <a:ln w="0">
            <a:noFill/>
          </a:ln>
        </p:spPr>
      </p:pic>
      <p:pic>
        <p:nvPicPr>
          <p:cNvPr id="157" name="m5" descr=""/>
          <p:cNvPicPr/>
          <p:nvPr/>
        </p:nvPicPr>
        <p:blipFill>
          <a:blip r:embed="rId2"/>
          <a:stretch/>
        </p:blipFill>
        <p:spPr>
          <a:xfrm>
            <a:off x="5181480" y="4533840"/>
            <a:ext cx="29718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1591920"/>
            <a:ext cx="899172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- разработка концептуальной модели, выявление основных элементов системы и элементарных актов взаимодействия;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- формализация, то есть переход к математической модели;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- создание алгоритма и написание программы;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- планирование и проведение компьютерных экспериментов;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- анализ и интерпретация результато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884520" y="0"/>
            <a:ext cx="681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Этапы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компьютерного модел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Задач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342900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  <a:ea typeface="MS Mincho"/>
              </a:rPr>
              <a:t>Некоторое расстояние можно преодолеть пешком, на лодке или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  <a:ea typeface="MS Mincho"/>
              </a:rPr>
              <a:t>часть пути на лодке, а часть пешком.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  <a:ea typeface="MS Mincho"/>
              </a:rPr>
              <a:t>Особенность передвижения такова, что у лодки маленькая начальная скорость,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  <a:ea typeface="MS Mincho"/>
              </a:rPr>
              <a:t>но есть некоторое ускорени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е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  <a:ea typeface="MS Mincho"/>
              </a:rPr>
              <a:t>, со временем она хорошо разгоня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  <a:ea typeface="MS Mincho"/>
              </a:rPr>
              <a:t>У пешехода очень большая начальная скорость, но он быстро устает,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  <a:ea typeface="MS Mincho"/>
              </a:rPr>
              <a:t>со временем его скорость сильно уменьшается, а потом и вовсе падает до 0</a:t>
            </a:r>
            <a:r>
              <a:rPr b="0" lang="ru-RU" sz="20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  <a:ea typeface="MS Mincho"/>
              </a:rPr>
              <a:t>Вводится (в процентах) часть пути, которую надо преодолеть на лод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urier New"/>
                <a:ea typeface="MS Mincho"/>
              </a:rPr>
              <a:t>Рассчитывается время, необходимое на весь пу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t2" descr=""/>
          <p:cNvPicPr/>
          <p:nvPr/>
        </p:nvPicPr>
        <p:blipFill>
          <a:blip r:embed="rId3"/>
          <a:stretch/>
        </p:blipFill>
        <p:spPr>
          <a:xfrm>
            <a:off x="5562720" y="990720"/>
            <a:ext cx="2133360" cy="2066760"/>
          </a:xfrm>
          <a:prstGeom prst="rect">
            <a:avLst/>
          </a:prstGeom>
          <a:ln w="0">
            <a:noFill/>
          </a:ln>
        </p:spPr>
      </p:pic>
      <p:pic>
        <p:nvPicPr>
          <p:cNvPr id="163" name="t1" descr=""/>
          <p:cNvPicPr/>
          <p:nvPr/>
        </p:nvPicPr>
        <p:blipFill>
          <a:blip r:embed="rId4"/>
          <a:stretch/>
        </p:blipFill>
        <p:spPr>
          <a:xfrm>
            <a:off x="1143000" y="990720"/>
            <a:ext cx="2039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Эксперимент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5" name="p1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11:22:13Z</dcterms:created>
  <dc:creator>Tatiana</dc:creator>
  <dc:description/>
  <dc:language>en-US</dc:language>
  <cp:lastModifiedBy>Tatiana</cp:lastModifiedBy>
  <dcterms:modified xsi:type="dcterms:W3CDTF">2013-10-30T22:32:41Z</dcterms:modified>
  <cp:revision>7</cp:revision>
  <dc:subject/>
  <dc:title>Компьютерное моделирование в проектной деятельности </dc:title>
</cp:coreProperties>
</file>