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02B-556E-41E8-9435-3E6DBDFE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F36-7E89-4771-836B-1E0EC6BD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E87-4602-416E-8B01-AD33E838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BE7-3AE9-4633-AAB3-D018F692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5625-7105-40F4-A752-633010CC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D26-35FE-4738-9F5D-2285401E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A98-7553-41B1-8EA6-ADFF9E2F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1C1-35BF-4E39-9E76-040FB7D4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831-7F41-4B04-9558-F652C970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40E-592B-45DC-B641-3108995B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E75-9735-47B9-B0AE-FE43CF9C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1275-78EB-4298-AA24-9AD7326F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6C7D-27F3-4E05-84F1-E1D476CE9C1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6950-7032-4C9B-B944-058668B727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0;&#1083;&#1080;&#1087;-&#1057;&#1091;&#1074;&#1086;&#1088;&#1086;&#1074;&#1094;&#1099;.mp4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1.&#1082;.8.80.1.gif" TargetMode="External"/><Relationship Id="rId2" Type="http://schemas.openxmlformats.org/officeDocument/2006/relationships/hyperlink" Target="file:///1.&#1082;.8.80.2.gif" TargetMode="External"/><Relationship Id="rId3" Type="http://schemas.openxmlformats.org/officeDocument/2006/relationships/hyperlink" Target="file:///Turnir_junyh_fizikov_MGU_1987.pdf" TargetMode="External"/><Relationship Id="rId4" Type="http://schemas.openxmlformats.org/officeDocument/2006/relationships/hyperlink" Target="file:///&#1048;&#1085;&#1092;&#1086;&#1088;&#1084;&#1072;&#1094;&#1080;&#1086;&#1085;&#1085;&#1086;&#1077;%20&#1089;&#1086;&#1086;&#1073;&#1097;&#1077;&#1085;&#1080;&#1077;%20&#1086;%20&#1058;&#1070;&#1045;.doc" TargetMode="External"/><Relationship Id="rId5" Type="http://schemas.openxmlformats.org/officeDocument/2006/relationships/hyperlink" Target="file:///&#1047;&#1072;&#1076;&#1072;&#1085;&#1080;&#1103;%20&#1085;&#1072;&#1094;&#1080;&#1086;&#1085;&#1072;&#1083;&#1100;&#1085;&#1086;&#1075;&#1086;%20&#1058;&#1070;&#1045;%20&#1056;&#1060;%202013&#1075;.-&#1087;&#1086;&#1089;&#1083;&#1077;&#1076;&#1085;&#1080;&#1081;..docx" TargetMode="External"/><Relationship Id="rId6" Type="http://schemas.openxmlformats.org/officeDocument/2006/relationships/hyperlink" Target="file:///&#1047;&#1072;&#1076;&#1072;&#1085;&#1080;&#1103;%20&#1052;&#1058;&#1070;&#1045;-2014%20&#1055;&#1088;&#1080;&#1085;&#1103;&#1090;&#1086;%2019.11.13..docx" TargetMode="External"/><Relationship Id="rId7" Type="http://schemas.openxmlformats.org/officeDocument/2006/relationships/hyperlink" Target="file:///2013_iypt_booklet.pdf" TargetMode="External"/><Relationship Id="rId8" Type="http://schemas.openxmlformats.org/officeDocument/2006/relationships/hyperlink" Target="file:///&#1041;&#1091;&#1082;&#1083;&#1077;&#1090;%20&#1058;&#1070;&#1045;.GIF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5186880" y="3826800"/>
            <a:ext cx="37134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.Н. Ю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едатель экспертного со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урнира юных естествоиспытател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физ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unosov@mail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edu-tournamen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04920" y="685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рнир юных естествоиспыт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средство приобщения к проек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09480" y="2438280"/>
            <a:ext cx="762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клад на семинар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Использование информационных технологий в межпредметной проектной деятель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822400" y="617220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ва, 20 ноября 2013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logo_ynt_bez_fona"/>
          <p:cNvPicPr/>
          <p:nvPr/>
        </p:nvPicPr>
        <p:blipFill>
          <a:blip r:embed="rId1"/>
          <a:stretch/>
        </p:blipFill>
        <p:spPr>
          <a:xfrm>
            <a:off x="1066680" y="3733920"/>
            <a:ext cx="160020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13AF-42F5-4F5C-940C-B12E7C101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C802-51FF-43AC-A840-D36A740FE5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57200" y="213408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теприимный уче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жды сэру Исааку Ньютону гости пожаловались, что калитка в его сад туго открывается, и попросили сделать другую, получш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не знаю, куда лучше, – ответил физ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ак каждый входящий наливает в бак для дома не меньше галлона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ите схему калитки, доставляющей воду из колодца глубиной 10 м с максимальным КП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гли бы гости при этом не испытывать серьезных затруднени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752480" y="533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 турнирн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17760" y="1371600"/>
            <a:ext cx="41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многоуровневого 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367A-A5D0-4343-93E1-BE8A2A8CEE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9C48-F9C9-460E-95BE-C2E8C47FC7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619280" y="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 турнирн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50920" y="464760"/>
            <a:ext cx="87138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экспериментального зад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ча под колпа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авьте горящую свечу в блюдце, наполненное водой. Теперь накройте свечу прозрачным стаканом. Объясните наблюдаемые физические явления. Исследуйте зависимость величины подъема уровня воды в стакане от различных существенных параметр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веча под стаканом.avi" descr=""/>
          <p:cNvPicPr/>
          <p:nvPr/>
        </p:nvPicPr>
        <p:blipFill>
          <a:blip r:embed="rId1"/>
          <a:stretch/>
        </p:blipFill>
        <p:spPr>
          <a:xfrm>
            <a:off x="1619280" y="1927080"/>
            <a:ext cx="6119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96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C885-88AB-42BE-AD25-F61C03F61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50920" y="623520"/>
            <a:ext cx="8713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экспериментального зад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ча под колпа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ое исполнение.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619280" y="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 турнирн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веча под цилиндром.avi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0926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5196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E7F6-DFAC-44E8-B985-53274B228D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619280" y="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 турнирн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9280" y="484200"/>
            <a:ext cx="8713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экспериментального зад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яшущее пла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естите горящую свечу между пластинами воздушного конденсатора (из набора школьного кабинета). Подайте на пластины высокое напряжение (10 – 20 кВ). Объясните поведение пла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веча в конденсаторе.AVI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466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A625-43A0-44A6-9016-14960C584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784D-62A2-4468-98AD-8BBA79E80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1609200"/>
            <a:ext cx="800244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ристический маршру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 – менеджер турфирмы, разрабатывающий планы спортивно-экскурсионных поезд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мья с детьми летом хочет совершить  недельное  путешествие по маршруту Париж – Дюссельдорф. Часть пути они хотят проезжать на велосипеде (не более 50 км в день), а часть на поезде (электричка – Regional train без пересадок, не более 2 часов в день). Так как дети ночью должны спать, ежедневный маршрут не должен начинаться раньше 10 часов утра и заканчиваться  позже 8 часов вечера. В местах ночевок должна быть возможность остановиться в кемпинге, где допускается установка палаток (pitch). Поездка должна проходить по интересным мес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4479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 турнирн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AC4E-AE8D-417F-8885-81272FAE4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DCA9-8C4D-46CE-89A9-9290F6402F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28760" y="1366560"/>
            <a:ext cx="80024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адра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Из плотной бумаги вырезаны равносторонний треугольник и квадрат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Разрезать эти фигуры на многоугольники так, чтобы из них можно было сложить один квадрат, при этом, части должны полностью его заполнять и не должны пересекаться. Изготовьте из бумаги реальную модель, сфотографируйте её и приложите к решению задач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4479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 турнирн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219B-52E3-41B9-8B12-BF541BC31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ADC3-C833-4BB2-8D96-2AFA9CE9B7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479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 турнирн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0580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776A-97CC-40FC-B6C4-70AB17104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12A7-274B-4711-BBF4-6D9CB58CC5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547640" y="189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 турнирн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4000" y="620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думай 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чить небольшой разряд молнии при помощи статического электр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Электризация.avi" descr=""/>
          <p:cNvPicPr/>
          <p:nvPr/>
        </p:nvPicPr>
        <p:blipFill>
          <a:blip r:embed="rId1"/>
          <a:stretch/>
        </p:blipFill>
        <p:spPr>
          <a:xfrm>
            <a:off x="1557360" y="1798560"/>
            <a:ext cx="630864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112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8CAA-4117-4C9B-97BB-B60651DF52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EE4C-6240-4754-8FDE-E500C56030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4479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 турнирн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77800" y="1488600"/>
            <a:ext cx="63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думай 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Зад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одготовленное Московскими суворов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148C-E525-41D1-BA91-FA36D8BE2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FCDB-FC7C-494B-9D8F-B0DC56795A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479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18040" y="1295280"/>
            <a:ext cx="667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ая статья о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урнир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ных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физик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етодическа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по ТЮ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Информацион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ток о ТЮ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Зад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сийского ТЮ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Зад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народного ТЮ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Букл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6-го Международного ТЮФ на Тайв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Букл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-го Международного ТЮЕ в Тур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лет Международного ТЮ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я про мол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ип Суворов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ип электриз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ип свеча под стака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ип свеча под цилинд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ип свеча в конденсат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зисы статьи про ТЮЕ на конференции в Вороне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4FE2-2504-4CB0-904F-B96712466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1FDE-A1D9-4A90-9B32-93985C9DD8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1066680"/>
          <a:ext cx="8229600" cy="5070600"/>
        </p:xfrm>
        <a:graphic>
          <a:graphicData uri="http://schemas.openxmlformats.org/drawingml/2006/table">
            <a:tbl>
              <a:tblPr/>
              <a:tblGrid>
                <a:gridCol w="946440"/>
                <a:gridCol w="1544400"/>
                <a:gridCol w="982800"/>
                <a:gridCol w="1208160"/>
                <a:gridCol w="1131840"/>
                <a:gridCol w="1284120"/>
                <a:gridCol w="1131840"/>
              </a:tblGrid>
              <a:tr h="73152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ых физ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ых естеств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ых хим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ов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ов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т.д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й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очны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2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2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1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9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. 1-3 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1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1 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6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(в т.ч. информ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8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связи с Проектной деятель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!!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1113"/>
          <p:cNvSpPr/>
          <p:nvPr/>
        </p:nvSpPr>
        <p:spPr>
          <a:xfrm>
            <a:off x="869040" y="197280"/>
            <a:ext cx="725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гообразие Турни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держивающихся классической формы прове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0E13-F247-45E4-84D8-ACBBBB3A5E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D50B-84BD-49C8-BCE7-F78845BEC9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34936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5397-4195-46E9-BB10-6115C312D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04B6-59E0-4FBA-8E39-D61F8828D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09480" y="472680"/>
            <a:ext cx="777240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рнир Юных Естествоиспыт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урнир юных естествоиспытате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это командное состязание учащихся средних образовательных учреждений в умении решать исследовательские естественнонаучные проблемы, убедительно представлять свои решения, отстаивать их в научных дискуссиях – научных бо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4953240" cy="3714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2670840" y="5943600"/>
            <a:ext cx="395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ткрытие 1-го международного ТЮ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скишехир, Турция, 29 апреля 201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E1D8-74BB-4638-A49D-5D32CC392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EE1F-0EF7-4E53-90A8-2063BFCBE8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11280" y="53352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тко о Турнире юных естествоиспыт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562320" y="1371600"/>
            <a:ext cx="869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тличительные особенности Турн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рнир, как интеллектуальное соревнование учащих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енно отличается от предметных олимпиад, конференц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урсов проектов, хотя и сочетает в себе черты и т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руг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дания ТЮ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Участники ТЮ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Заоч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Национальный этап. В России это рег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Международ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A918-C8BA-4C20-A91A-6C3E69088B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2DA6-325C-40C6-9C72-F045D4A2B5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11280" y="53352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тко о Турнире юных естествоиспыт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55840" y="1371600"/>
            <a:ext cx="6133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тличительные особенности Турн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дания ТЮ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ные задания открытого ти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оуровневость з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предметный характер з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ривязанность к школьным програм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тельный срок ис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куссионная форма защиты реш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Участники ТЮ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Заоч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Национальный эта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Международ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86B8-D0BD-4E85-A602-59CBE262C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BDD9-FA6B-4474-A051-1B172E1C1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11280" y="53352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тко о Турнире юных естествоиспыт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562680" y="1371600"/>
            <a:ext cx="851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тличительные особенности Турн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дания ТЮ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Участники ТЮ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анды состоящие из 6-ти учащихся средних учеб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режд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 участников от 12 до 16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командой работают научные руководители (не менее 2-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и принимают непосредственное участие в Турн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Заоч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Национальный этап. В России это рег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Международ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1D9D-B4DB-48E3-8ABE-49F847CD44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9C2F-18CA-4E77-BAE2-0D6CD4948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11280" y="53352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тко о Турнире юных естествоиспыт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536040" y="1371600"/>
            <a:ext cx="754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тличительные особенности Турн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дания ТЮ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Участники ТЮ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Заоч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рокий охват учас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ннее включение участников в работу над задан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Национальный этап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Международ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2F67-FA7E-493D-9824-3D38FB71B0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5B25-BB4B-4027-AAD4-0A7299C7B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611280" y="53352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тко о Турнире юных естествоиспыт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62680" y="1371600"/>
            <a:ext cx="8213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тличительные особенности Турн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дания ТЮ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Участники ТЮ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Заоч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Национальный этап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ная фор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ится в виде серии научных боев, на которых ком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очередно выступают в ролях Докладчика, Оппонента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ценз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Международ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74A9-6864-4D5D-BF74-65866288C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BD1F-D2C5-4F26-8372-737CC2E73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1280" y="53352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тко о Турнире юных естествоиспыт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558000" y="1371600"/>
            <a:ext cx="5930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тличительные особенности Турн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дания ТЮ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Участники ТЮ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Заоч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Национальный этап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Международ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ная фор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вуют национальные команды ст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19:23:36Z</dcterms:created>
  <dc:creator>Сергей</dc:creator>
  <dc:description/>
  <dc:language>en-US</dc:language>
  <cp:lastModifiedBy>Фото-курсы</cp:lastModifiedBy>
  <dcterms:modified xsi:type="dcterms:W3CDTF">2013-11-26T07:30:57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